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frogs.wav" ContentType="audio/x-wav"/>
  <Override PartName="/ppt/media/applause.wav" ContentType="audio/x-wav"/>
  <Override PartName="/ppt/media/image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5.jpeg" ContentType="image/jpeg"/>
  <Override PartName="/ppt/media/image27.png" ContentType="image/png"/>
  <Override PartName="/ppt/media/image7.jpeg" ContentType="image/jpeg"/>
  <Override PartName="/ppt/media/MSj00749110000%5B1%5D.wav" ContentType="audio/x-wav"/>
  <Override PartName="/ppt/media/image1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23.png" ContentType="image/png"/>
  <Override PartName="/ppt/media/image14.gif" ContentType="image/gif"/>
  <Override PartName="/ppt/media/image15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yeehaw.wav" ContentType="audio/x-wav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5AA-98CE-421E-8C38-750D4093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781-61DC-4A38-9B44-0244A6E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D6F-D16F-4297-9E86-7F9F5AAC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E2E-2DE0-4B9A-B149-40BEF5A3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7DE-2D2F-4374-9DC9-7CFDE49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ACE-DB0B-4014-A0D0-3DCF4ED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811-A629-41E9-8108-FE6461D0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6D5-DED0-4590-A2F0-5DD27EB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02D-64C1-4C9B-A41B-370E924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97B-70C4-4601-B8AA-BC87D12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7C3-B8C9-4120-930D-2CA1422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AA2-3490-40EC-B099-931F41B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CE8D-8B38-41D8-8411-2A84C432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Sj00749110000%5B1%5D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ooregon.org/Gallery/images/wallpapers/small/small_frog.jpg&amp;imgrefurl=http://www.zooregon.org/Gallery/wallpapers.htm&amp;h=600&amp;w=800&amp;sz=31&amp;tbnid=_V3BjCoExkMJ:&amp;tbnh=106&amp;tbnw=141&amp;start=5&amp;prev=/images%3Fq%3Dfrog%26hl%3Den%26lr%3D%26sa%3D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iking.coe.uh.edu/~mhasan/cuin3113/tips/frogcycle.ppt" TargetMode="External"/><Relationship Id="rId2" Type="http://schemas.openxmlformats.org/officeDocument/2006/relationships/hyperlink" Target="http://bogglesworldesl.com/files7/froglifecycleactivity.doc" TargetMode="External"/><Relationship Id="rId3" Type="http://schemas.openxmlformats.org/officeDocument/2006/relationships/hyperlink" Target="http://classroom.jc-schools.net/sci-units/frog-cycle.ppt" TargetMode="External"/><Relationship Id="rId4" Type="http://schemas.openxmlformats.org/officeDocument/2006/relationships/hyperlink" Target="http://encarta.msn.com/encyclopedia_761552464/Frog_(animal).html" TargetMode="External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Life Cycle of a Frog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15200" cy="431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11600" y="6156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Adult Frog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Once the lungs form and begin to work, the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gills</a:t>
            </a: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il</a:t>
            </a: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 disappear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953240" cy="31543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The adult </a:t>
            </a:r>
            <a:r>
              <a:rPr b="0" lang="en-US" sz="5400" spc="-1" strike="noStrike">
                <a:solidFill>
                  <a:srgbClr val="990099"/>
                </a:solidFill>
                <a:latin typeface="Comic Sans MS"/>
              </a:rPr>
              <a:t>frog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 is now ready to live on land.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027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Frog Riddles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Q:  Why are frogs always happy? 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:  Because they always eat what bugs them!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Q:  What kind of frog do you find on a far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:  A bullfrog!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1676520" cy="1676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676160" cy="1676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05520" y="4686480"/>
            <a:ext cx="2476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More Frogs!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2667240" cy="20048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2666880" cy="20955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5832" b="18344"/>
          <a:stretch/>
        </p:blipFill>
        <p:spPr>
          <a:xfrm>
            <a:off x="228600" y="4114800"/>
            <a:ext cx="2816280" cy="196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7903" t="0" r="10523" b="7841"/>
          <a:stretch/>
        </p:blipFill>
        <p:spPr>
          <a:xfrm>
            <a:off x="3276720" y="4114800"/>
            <a:ext cx="2438280" cy="1967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019920" y="1676520"/>
            <a:ext cx="2819160" cy="210492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88" name="" descr="red-bellied tree frog"/>
          <p:cNvPicPr/>
          <p:nvPr/>
        </p:nvPicPr>
        <p:blipFill>
          <a:blip r:embed="rId7"/>
          <a:stretch/>
        </p:blipFill>
        <p:spPr>
          <a:xfrm>
            <a:off x="5867280" y="4114800"/>
            <a:ext cx="297180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firs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339933"/>
                </a:solidFill>
                <a:latin typeface="Comic Sans MS"/>
              </a:rPr>
              <a:t>The first stage of the frog life cycle is the</a:t>
            </a: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1" lang="en-US" sz="88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1" lang="en-US" sz="8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nex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990720"/>
            <a:ext cx="8331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next stage of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is th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las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760" y="228600"/>
            <a:ext cx="837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Metamorphosis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Metamorphosi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is the changes that a frog goes through during it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life cycle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There are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four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main stages in the life cycle of a frog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4724280"/>
            <a:ext cx="46479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Ribbit! Resources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viking.coe.uh.edu/~mhasan/cuin3113/tips/frogcycle.pp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bogglesworldesl.com/files7/froglifecycleactivity.doc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classroom.jc-schools.net/sci-units/frog-cycle.pp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http://encarta.msn.com/encyclopedia_761552464/Frog_(animal).htm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mages provided by Google Image Search.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96160" y="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971800" y="419112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33520" y="450720"/>
            <a:ext cx="18288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Frogs have a life cycle with two parts, living in water a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dpole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and on land a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adult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8701" r="0" b="0"/>
          <a:stretch/>
        </p:blipFill>
        <p:spPr>
          <a:xfrm>
            <a:off x="838080" y="2284560"/>
            <a:ext cx="7696440" cy="42307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Egg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he first stage in the life cycle of the frog is the 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A frog lays many eggs at one time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he eggs are covered with a jellylike coating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6524" r="-1134" b="0"/>
          <a:stretch/>
        </p:blipFill>
        <p:spPr>
          <a:xfrm>
            <a:off x="5105520" y="3733920"/>
            <a:ext cx="3581280" cy="254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217" t="7434" r="23029" b="14658"/>
          <a:stretch/>
        </p:blipFill>
        <p:spPr>
          <a:xfrm>
            <a:off x="5867280" y="609480"/>
            <a:ext cx="2360880" cy="23097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Frog Eggs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33960" cy="46278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Comic Sans MS"/>
              </a:rPr>
              <a:t>Eggs in a Pond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743200"/>
            <a:ext cx="83808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33560" y="2133720"/>
            <a:ext cx="75960" cy="5331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Tadpole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The second stage of the frog life cycle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Hatched tadpoles hav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gills</a:t>
            </a: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 for breathing in the water. 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They have a tail, but no legs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4952880"/>
            <a:ext cx="3657600" cy="1413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As a </a:t>
            </a: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 grows, </a:t>
            </a: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lungs</a:t>
            </a: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 begin to form.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724280" cy="354348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Froglet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The next stage of the frog life cycle is the </a:t>
            </a: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froglet</a:t>
            </a: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4191120" cy="2952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9" name=""/>
          <p:cNvSpPr/>
          <p:nvPr/>
        </p:nvSpPr>
        <p:spPr>
          <a:xfrm flipV="1">
            <a:off x="5410080" y="5028840"/>
            <a:ext cx="228600" cy="6094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10080" y="5562360"/>
            <a:ext cx="1143000" cy="7596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657600"/>
            <a:ext cx="3124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These legs help the frog on 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Property of</cp:lastModifiedBy>
  <dcterms:modified xsi:type="dcterms:W3CDTF">2009-02-17T13:41:28Z</dcterms:modified>
  <cp:revision>37</cp:revision>
  <dc:subject/>
  <dc:title>Life Cycle of a Frog</dc:title>
</cp:coreProperties>
</file>